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210B-5220-475E-A8BE-B86E1BC0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84D-CF61-4988-8864-6A42C5BC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3C3-9AC3-4301-9403-A36244C5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C22-1696-49BA-ADB0-C447A105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9323-CA4D-4727-8801-319D9426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989-0C61-4823-9734-F484B39D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086E-3DD7-4395-B69C-2808CAF8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4A6-CF52-45C6-8275-F63499CA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752-05CD-41D0-B53C-FFB2F256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28C-651A-4AD7-AEFC-A20FEC85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DFA-845A-4463-9B8E-FE09C91D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9D4-1DE9-4427-8394-2FF0E946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DAFB-A410-428D-A24D-B2A967BA8D1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711160" y="59230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5.12.1867 – 12.05.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Piłsudski"/>
          <p:cNvPicPr/>
          <p:nvPr/>
        </p:nvPicPr>
        <p:blipFill>
          <a:blip r:embed="rId1"/>
          <a:stretch/>
        </p:blipFill>
        <p:spPr>
          <a:xfrm>
            <a:off x="2484360" y="333360"/>
            <a:ext cx="3940200" cy="5465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2798640" y="64468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 Wikipedia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6:36:41Z</dcterms:created>
  <dc:creator>IB</dc:creator>
  <dc:description/>
  <dc:language>en-US</dc:language>
  <cp:lastModifiedBy>rena</cp:lastModifiedBy>
  <dcterms:modified xsi:type="dcterms:W3CDTF">2013-03-05T18:40:07Z</dcterms:modified>
  <cp:revision>4</cp:revision>
  <dc:subject/>
  <dc:title>Slajd 1</dc:title>
</cp:coreProperties>
</file>